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C99-169E-48B7-89B8-4736A04ED2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ECDA-B82E-47C3-B05A-F394C4D33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4661-4ADC-4B31-969D-0C8D49A25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8"/>
          <p:cNvSpPr/>
          <p:nvPr/>
        </p:nvSpPr>
        <p:spPr>
          <a:xfrm>
            <a:off x="3848040" y="9381960"/>
            <a:ext cx="29466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08CE9-9E2A-4927-9819-2E2137E2DB8C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"/>
          <p:cNvSpPr/>
          <p:nvPr/>
        </p:nvSpPr>
        <p:spPr>
          <a:xfrm>
            <a:off x="3848040" y="938196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4034F-52FC-4965-9337-55621410D77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"/>
          <p:cNvSpPr/>
          <p:nvPr/>
        </p:nvSpPr>
        <p:spPr>
          <a:xfrm>
            <a:off x="420840" y="749160"/>
            <a:ext cx="59576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E648-67B6-440C-8ABB-D6DACD78E1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EB9E-BD60-49CE-ACE9-8A7509B228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49EF-3E85-41F3-AF54-40EAA86A39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8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1BBB36EB-B2D3-437E-8095-0DA82C2060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"/>
          <p:cNvSpPr/>
          <p:nvPr/>
        </p:nvSpPr>
        <p:spPr>
          <a:xfrm>
            <a:off x="420840" y="750960"/>
            <a:ext cx="59544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F12-6D99-47F4-9F33-7D12119B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781-61B3-4D28-9D04-898BA629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0DB02-0D36-4610-B908-B75B029D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1A9B3-274F-451E-9DE9-2DBF049C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FB2EE-4D71-422A-B62E-F05FEA50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8B0A3-5C52-4A8A-9FB3-7742E01F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35F88-CFD7-419E-9D41-BB836BC1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8BC3A-4F92-4BD3-B54D-B1463286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4BC9C-AD37-42AF-82B6-34339592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F1576-3650-402B-8206-1CAEA2E6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4137E-EB08-4101-AD0B-54D10322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6719A-93C4-43F7-89D4-2359463F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803-C25A-4A8C-9793-81D22C87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AFC60-1A09-489E-BAF0-C8747B41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73D29-C3BF-4FE4-A24B-DD6A0DD1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E1EB4-37BB-4AF1-9B46-BFB2B32D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3597A-1127-4A7A-92C5-869BDC8A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43DB3-569C-4A07-A6A6-2E6E0453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5D5B9-D3E3-42CF-A880-46FF98CE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4CC4C-EC6D-440A-91F6-3CF9DFA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4C2F5-DE50-4289-8A58-0435A46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9B4B7-DFAB-4CC8-8240-82D29D95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B573A-5D15-454B-99B9-268DC5BB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F36-0134-48A9-A7FA-EC96BFD6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3009B-30ED-4190-AD5A-DE296187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A1CAE-803B-48A3-8C9C-83339075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FC857-5D11-486D-A21F-82301D79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86C51-7E61-4F26-9A18-FD2E0610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6F234-600B-41A5-87DF-864E10AD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F9653-171F-45F6-95DD-F7F2B94E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C7296-BFB5-4D61-B25C-3A2582C7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03C5E-FEEE-4A3E-B548-D365C89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CBCC2-8B0C-4003-8089-96377540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94A3E-E0BA-4530-AA45-4E696E70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913E-EEF2-47BE-BF72-74F72683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FC431-DBF0-499E-9407-C7D6BFA7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AE22D-34F3-4955-9834-770C8DB2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3860C-CEFA-436C-AA50-5DA2D889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D8CE4-FAD4-42C9-B4E3-B22B4F5C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F3BED-9668-4FD8-B0BB-3D8C6991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76FCE-36FB-4332-A4C0-AFC012F2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E7D67-5F65-4599-8860-AF139ED8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9A0CE-B6A4-412C-A7D6-4DCE0479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696E8-565C-4C0B-B23E-4797F5DB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CCB44-56AB-46E1-9316-2577CE12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E6F0-687E-4670-B4AD-80C4821B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DBD97-CE63-475A-8300-B909C501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20B6A-1F18-462A-A8CE-7FA03AF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EAC1A-89E7-4079-B1F4-E9CC6AE8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AA620-6D46-48A0-8C1D-29CF4812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BDB97-3284-43DB-BC1C-3229BFC2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F0AB-E401-44B8-B349-069F4B56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E754-2F0F-4595-9EDF-B0877B12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4E06-84BA-4FBD-850C-0560B116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9A48-A498-48A1-BD03-C9B0EE15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BC00-BCAB-47BF-B197-4AFFD8AC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783-A389-45A1-B55A-C803CBA7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8180-468D-4CF6-800F-F7DF007D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5E0B-1956-4F18-B0CB-8BA251DF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4C0B-AF80-4B83-BF73-7C335E89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C790-C72F-4DB4-844B-4F3AC24D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C925-6D85-44EB-B0CF-FA12161C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90B6E-922D-4B21-8427-9A13BA11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2BFF-2B69-455A-83CC-296F8418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503B-88FB-4844-A440-B7D64E38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5035-64DA-4003-BD4F-998F50B2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E876-2A54-482C-94DD-1FD8C829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1DA-71EF-48ED-A09C-EAA143FE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E549-D47C-4F05-B34E-14C6BB2F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CB26F-47F8-4B53-AE78-A49739E3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2E7B-FA5D-4032-8A0F-04072F3E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CF4E-B2D5-416E-9217-A51F4A5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8CAC7-FE3D-4E2B-9EA1-C4BD0E54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028A-163D-4DB2-911A-440AE657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0F1FE-8CFF-4834-92DB-3A079AAB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669C6-7395-4152-8E64-5243A26C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1005-9002-4366-980F-5D7017BD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A49C8-F60F-46FE-95C8-2B597144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FA0-1A2A-4374-8147-933CAF13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F3CE-6B48-4025-9797-3368185D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611D-012E-4720-B735-1688F23D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99FA-C305-4123-B2E8-2857A712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7918-AAFA-456D-B229-BAC0DA20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A9020-8BB0-465C-9EB7-80EE3F4F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AAD9-CD69-4198-B092-F42B329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720C0-F4A1-46FA-8E85-21D2B185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F0F2-DDB1-41BF-AE89-9E1B6EB4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8615E-1D9D-432B-BE66-E2BD7C66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9DA05-E02D-4CE0-BA69-137C6BFE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474-01D1-4669-B0E0-2E9261B0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F5655-EDF1-4F02-AC1D-043C7A41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25AAF-5684-4437-B4D0-54A808A1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7290C-2287-4AAB-BCA1-C7FFC409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E66F-8CB3-43E1-B91A-3956C58C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9A7A2-F7EC-4C94-8BAF-AE7B4D70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CC50-D986-471F-8237-EBE24232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F3996-CA33-4509-B4A4-415514A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96A2F-9C14-421F-8FFF-7F2D4889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13C45-0CB5-4EF5-BB2C-1297BAD6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69971-F28E-44FF-BA77-1A57EAA1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572-84FC-4612-B65F-B31A92A2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29036-2605-4427-8968-99F01C70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6DC78-10BC-49EE-AC8E-F70D353C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50FDD-DEC4-475D-AB83-E51BB200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F2CD7-995E-4784-89FA-01480632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DADBA-DC94-46F5-BE80-480C8BAD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08F51-655E-4C0E-87B0-CC3530B5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888BE-0AEB-4832-B452-378D50C7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A2E22-D5FD-4DAF-9051-C5493A5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56F79-B1E2-4FB2-B9D2-19BBA600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8009-09A6-47D9-AC7B-ADFD291A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1DF-CF79-4625-B764-45DC8D4B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4E1F2-939A-4217-9D06-29308FD0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2E5F4-2C3D-4A47-82EF-C0D88DEC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E292-10B6-44F0-8FC0-6F98C06E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EF77B-E9E0-489B-BF3D-A8B341DA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CED17-8DD3-4C85-A91C-38B85EEA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4CAD7-ED12-40D6-AE47-6F4299BD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6EA56-52CC-44F3-93F4-C9CDC107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DAC2A-6AF0-45E6-A81E-7A42ADD2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6FF6E-F87D-49E4-AAEE-F5EC422D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1A49E-F3CF-41DD-A2D5-6567CE49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EF4-D85B-4E3A-B988-43882B8D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BECD8-695F-4276-A8CC-F7562B61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C90B3-C920-422E-8FEC-F95B229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7297E-278F-42A2-94D2-D1AE9BAD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52F85-D4DA-44E3-B2FF-33E3D18F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002D1-1CF7-472F-9FA7-0034B6FF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88D70-0410-40C1-A1D3-367B685B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F81D8-6E4E-4B81-AD8D-9FDE97CA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1512-AA12-47BB-A385-C4F78DB9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DC01A-5F1F-4C1E-8E94-78BF5DA0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675ED-A764-4633-94D9-A7E2A356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87B-C011-4E0E-A3A8-085CF4A0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2C890-A9BE-4676-A96C-CBB31CFA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1D9A3-1DC4-4E19-8D15-43BE185A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8E66A-8B6F-42F5-9476-69742A40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652E8-3CC7-42C8-B9CA-126CC3DB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047EF-A644-49AA-A128-0274CCB8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7E7B7-0359-43AE-9189-B67660B7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BA375-6B1F-4B9B-81DD-90422959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848D6-E5EA-4DFD-8299-F772CD70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F7EA5-C5FB-46D8-9CAA-D83E0CAF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62927-C01C-4816-BF17-6E3B449A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661A-8E3B-4709-99CF-7AE52C6FE96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00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03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07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E2AD-92F9-41D8-85F4-ABD7B0B247B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1BDB-9C70-4BA3-8741-22A6071B13B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038F-1AA6-4623-9EA2-F2F58D21DE2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B35C-0CE0-4C9C-A5E6-5D1C288129D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5CBF-5E8E-4741-8016-950CCF531CF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C118-10C9-4658-A07D-9DB24CE1182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5752-FC81-457F-AAC1-E7DC7F623DA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79CF-9C9C-4F4F-83D1-F000CDE3CAC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D16-0B17-4D0C-9C2B-2455BA3E92F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40CB-469A-4D6F-BE92-98F9553D5D8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9413-0524-4918-8F0B-8E75C380C83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Нижний колонтитул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830-77B1-40AD-A9AA-07B33CB8868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"/>
          <p:cNvPicPr/>
          <p:nvPr/>
        </p:nvPicPr>
        <p:blipFill>
          <a:blip r:embed="rId3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8"/>
          <p:cNvSpPr/>
          <p:nvPr/>
        </p:nvSpPr>
        <p:spPr>
          <a:xfrm>
            <a:off x="838080" y="283104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осударственная (итоговая) аттестация выпускников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X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ассов общеобразовательных учреждений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еспублики Татарстан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в 2013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3" descr=""/>
          <p:cNvPicPr/>
          <p:nvPr/>
        </p:nvPicPr>
        <p:blipFill>
          <a:blip r:embed="rId4"/>
          <a:stretch/>
        </p:blipFill>
        <p:spPr>
          <a:xfrm>
            <a:off x="6172200" y="0"/>
            <a:ext cx="3200400" cy="2673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0"/>
          <p:cNvSpPr/>
          <p:nvPr/>
        </p:nvSpPr>
        <p:spPr>
          <a:xfrm>
            <a:off x="6477120" y="1752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У «Республиканский центр мониторинга качества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304920" y="1828800"/>
            <a:ext cx="853416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В ГИА-9 практическая часть представлена существенно шире, чем в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1274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устная часть экзамена по иностранным язы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1274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рактикум по физике на реальном оборудов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1274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задания по информатике и ИКТ, выполняемые на компьюте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0768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я в КИМ в 2013 г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0772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я в КИМ в 2013 г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0520" y="8377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мя проведения экзаменов: 4 часа сокращено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5 минут (до 235 минут)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ствознание, история, информатика и ИКТ, литература, иностранные языки, химия –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менений н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й язык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менено задание С2;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лючено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ьтернативное задание (С2.2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логия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: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часть 2 (В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ключено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рактико-ориентированное задание на соотнесение морфологических признаков организма или его отдельных органов с предложенными моделями по заданному алгоритм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ика: добавлено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ние 8 с выбором ответа – на тепловые явления, а также задание 23 с кратким ответом – на понимание и анализ экспериментальных данных, представленных в виде таблицы, графика или рисунка (схемы). Увеличилось до пяти количество заданий с развернутым ответом: к четырем заданиям с развернутым ответом части 3 добавилось задание 19 части 1 – на применение информации из текста физического содержания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еография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ципиальных изменений н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8612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ка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овое в 2013 г.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возможность раздельного оценивания алгебраической и геометрической подготовки учащихся (выставление отметок по курсу алгебры и курсу геометрии), модульная структура - «Алгебра», «Геометрия», «Реальная математика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367920" indent="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овые ФГОС – предмет «Математика. Алгебра. Геометрия. Информатика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олноценная реализация требований ФГОС в части использования приобретенных знаний и умений в практической деятельности и повседневной жизн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щимся разрешается использовать справочные материалы. Разрешается использовать линейку. Калькуляторы на экзамене не используются.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596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4"/>
          <p:cNvSpPr/>
          <p:nvPr/>
        </p:nvSpPr>
        <p:spPr>
          <a:xfrm>
            <a:off x="304920" y="3808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Шкала пересчёта первичного балла в отметку по математике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8145360" cy="1143000"/>
          </a:xfrm>
          <a:prstGeom prst="rect">
            <a:avLst/>
          </a:prstGeom>
          <a:ln w="0">
            <a:noFill/>
          </a:ln>
        </p:spPr>
      </p:pic>
      <p:sp>
        <p:nvSpPr>
          <p:cNvPr id="600" name="TextBox 5"/>
          <p:cNvSpPr/>
          <p:nvPr/>
        </p:nvSpPr>
        <p:spPr>
          <a:xfrm>
            <a:off x="457200" y="2703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станавливается следующий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инимальный крите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 баллов, набранные по всей работ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е мене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-х баллов по модулю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лгебр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мене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 баллов по модулю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еометр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мене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х баллов по модулю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еальная математик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лько выполнение всех условий минимального критерия дает выпускнику право на получение положительной экзаменационной отметки по пятибалльной шкале по математике или по алгебре и геометрии (в соответствии с учебным планом образовательного учреж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Нижний колонтитул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E1ED-697B-4B3D-B78E-40506447363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436680" y="836640"/>
            <a:ext cx="8153280" cy="5473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"/>
          <p:cNvPicPr/>
          <p:nvPr/>
        </p:nvPicPr>
        <p:blipFill>
          <a:blip r:embed="rId2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"/>
          <p:cNvSpPr/>
          <p:nvPr/>
        </p:nvSpPr>
        <p:spPr>
          <a:xfrm>
            <a:off x="1357200" y="2155680"/>
            <a:ext cx="64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476280" y="1096920"/>
            <a:ext cx="3238560" cy="55008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3886200" y="1371600"/>
            <a:ext cx="482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В аудитории для проведения ГИА – 9 в новой форме по информатике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олжен быть  оснащён</a:t>
            </a:r>
            <a:r>
              <a:rPr b="0" lang="en-GB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- </a:t>
            </a:r>
            <a:r>
              <a:rPr b="0" lang="en-GB" sz="2400" spc="-1" strike="noStrike" u="sng">
                <a:solidFill>
                  <a:srgbClr val="22228b"/>
                </a:solidFill>
                <a:uFillTx/>
                <a:latin typeface="Times New Roman"/>
                <a:ea typeface="Arial Unicode MS"/>
              </a:rPr>
              <a:t>рабочи</a:t>
            </a:r>
            <a:r>
              <a:rPr b="0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Arial Unicode MS"/>
              </a:rPr>
              <a:t>ми</a:t>
            </a:r>
            <a:r>
              <a:rPr b="0" lang="en-GB" sz="2400" spc="-1" strike="noStrike" u="sng">
                <a:solidFill>
                  <a:srgbClr val="22228b"/>
                </a:solidFill>
                <a:uFillTx/>
                <a:latin typeface="Times New Roman"/>
                <a:ea typeface="Arial Unicode MS"/>
              </a:rPr>
              <a:t> места</a:t>
            </a:r>
            <a:r>
              <a:rPr b="0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Arial Unicode MS"/>
              </a:rPr>
              <a:t>ми</a:t>
            </a:r>
            <a:r>
              <a:rPr b="0" lang="en-GB" sz="2400" spc="-1" strike="noStrike" u="sng">
                <a:solidFill>
                  <a:srgbClr val="22228b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(столы, парты) для выполнения частей 1 и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22228b"/>
                </a:solidFill>
                <a:uFillTx/>
                <a:latin typeface="Times New Roman"/>
                <a:ea typeface="Arial Unicode MS"/>
              </a:rPr>
              <a:t>компьютер</a:t>
            </a:r>
            <a:r>
              <a:rPr b="0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Arial Unicode MS"/>
              </a:rPr>
              <a:t>ами</a:t>
            </a:r>
            <a:r>
              <a:rPr b="0" lang="en-GB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 (по количеству участников плюс один резервный) для выполнения части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68360" y="0"/>
            <a:ext cx="7848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Условия проведения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                                              </a:t>
            </a:r>
            <a:r>
              <a:rPr b="1" lang="en-GB" sz="24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ГИА – 9 в новой форме по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 инфор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3" descr=""/>
          <p:cNvPicPr/>
          <p:nvPr/>
        </p:nvPicPr>
        <p:blipFill>
          <a:blip r:embed="rId2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7" descr="mb_informatics_big"/>
          <p:cNvPicPr/>
          <p:nvPr/>
        </p:nvPicPr>
        <p:blipFill>
          <a:blip r:embed="rId1"/>
          <a:stretch/>
        </p:blipFill>
        <p:spPr>
          <a:xfrm>
            <a:off x="4643280" y="112536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3" descr="IMG_5097"/>
          <p:cNvPicPr/>
          <p:nvPr/>
        </p:nvPicPr>
        <p:blipFill>
          <a:blip r:embed="rId2"/>
          <a:stretch/>
        </p:blipFill>
        <p:spPr>
          <a:xfrm>
            <a:off x="971640" y="11080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5" descr="compclass4tco"/>
          <p:cNvPicPr/>
          <p:nvPr/>
        </p:nvPicPr>
        <p:blipFill>
          <a:blip r:embed="rId3"/>
          <a:stretch/>
        </p:blipFill>
        <p:spPr>
          <a:xfrm>
            <a:off x="4788000" y="4221000"/>
            <a:ext cx="2592360" cy="2049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7" descr="p18_izobrajenie017"/>
          <p:cNvPicPr/>
          <p:nvPr/>
        </p:nvPicPr>
        <p:blipFill>
          <a:blip r:embed="rId4"/>
          <a:stretch/>
        </p:blipFill>
        <p:spPr>
          <a:xfrm>
            <a:off x="1042920" y="4221000"/>
            <a:ext cx="2735280" cy="205272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8"/>
          <p:cNvSpPr/>
          <p:nvPr/>
        </p:nvSpPr>
        <p:spPr>
          <a:xfrm>
            <a:off x="457200" y="30492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дин каби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 разделением зон  теоретической и практическ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457200" y="3124080"/>
            <a:ext cx="82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ва кабин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ля теоретической части                 для практическ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0"/>
          <p:cNvSpPr/>
          <p:nvPr/>
        </p:nvSpPr>
        <p:spPr>
          <a:xfrm>
            <a:off x="3851280" y="5229360"/>
            <a:ext cx="936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537080" cy="48974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нструкция для участников ГИА – 9 по инфор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5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78144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5"/>
          <p:cNvSpPr/>
          <p:nvPr/>
        </p:nvSpPr>
        <p:spPr>
          <a:xfrm>
            <a:off x="1763640" y="0"/>
            <a:ext cx="5761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хранение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6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6019560" cy="58802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957480" cy="22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4"/>
          <p:cNvSpPr/>
          <p:nvPr/>
        </p:nvSpPr>
        <p:spPr>
          <a:xfrm>
            <a:off x="324000" y="549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паковка материалов по инфор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684360" y="1197000"/>
            <a:ext cx="7416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В аудит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Бланки ответов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Бланки ответов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ерн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В ППЭ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Бланки с перечнем файлов всех участников экз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ск с файлами практической части всех участников экз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ижний колонтитул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02DE-4E87-4046-BB29-A495104B56AD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1"/>
          <p:cNvSpPr/>
          <p:nvPr/>
        </p:nvSpPr>
        <p:spPr>
          <a:xfrm>
            <a:off x="5124600" y="4419720"/>
            <a:ext cx="3619440" cy="16002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4dcfa"/>
                </a:solidFill>
                <a:latin typeface="Trebuchet MS"/>
              </a:rPr>
              <a:t>обучающиеся IX классов, освоившие образовательные программы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2"/>
          <p:cNvSpPr/>
          <p:nvPr/>
        </p:nvSpPr>
        <p:spPr>
          <a:xfrm>
            <a:off x="588960" y="2666880"/>
            <a:ext cx="3978360" cy="39625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4dcfa"/>
                </a:solidFill>
                <a:latin typeface="Trebuchet MS"/>
              </a:rPr>
              <a:t>обучающиеся на дому, дети, нуждающиеся в длительном лечении, находившиеся в лечебно-профилактических учреждениях более 4 месяцев, дети-инвалиды, обучающиеся в специальных (коррекционных) общеобразовательных учреждениях </a:t>
            </a:r>
            <a:r>
              <a:rPr b="0" lang="en-US" sz="2000" spc="-1" strike="noStrike">
                <a:solidFill>
                  <a:srgbClr val="b4dcfa"/>
                </a:solidFill>
                <a:latin typeface="Trebuchet MS"/>
              </a:rPr>
              <a:t>I</a:t>
            </a:r>
            <a:r>
              <a:rPr b="0" lang="ru-RU" sz="2000" spc="-1" strike="noStrike">
                <a:solidFill>
                  <a:srgbClr val="b4dcfa"/>
                </a:solidFill>
                <a:latin typeface="Trebuchet MS"/>
              </a:rPr>
              <a:t>-</a:t>
            </a:r>
            <a:r>
              <a:rPr b="0" lang="en-US" sz="2000" spc="-1" strike="noStrike">
                <a:solidFill>
                  <a:srgbClr val="b4dcfa"/>
                </a:solidFill>
                <a:latin typeface="Trebuchet MS"/>
              </a:rPr>
              <a:t>VII</a:t>
            </a:r>
            <a:r>
              <a:rPr b="0" lang="ru-RU" sz="2000" spc="-1" strike="noStrike">
                <a:solidFill>
                  <a:srgbClr val="b4dcfa"/>
                </a:solidFill>
                <a:latin typeface="Trebuchet MS"/>
              </a:rPr>
              <a:t> видов и  в образовательных учреждениях уголовно – исполнитель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Прямая со стрелкой 4"/>
          <p:cNvCxnSpPr/>
          <p:nvPr/>
        </p:nvCxnSpPr>
        <p:spPr>
          <a:xfrm flipH="1">
            <a:off x="2742840" y="1522800"/>
            <a:ext cx="1905840" cy="499320"/>
          </a:xfrm>
          <a:prstGeom prst="straightConnector1">
            <a:avLst/>
          </a:prstGeom>
          <a:ln w="9360">
            <a:solidFill>
              <a:srgbClr val="21306a"/>
            </a:solidFill>
            <a:miter/>
            <a:tailEnd len="med" type="arrow" w="med"/>
          </a:ln>
        </p:spPr>
      </p:cxnSp>
      <p:cxnSp>
        <p:nvCxnSpPr>
          <p:cNvPr id="552" name="Прямая со стрелкой 8"/>
          <p:cNvCxnSpPr/>
          <p:nvPr/>
        </p:nvCxnSpPr>
        <p:spPr>
          <a:xfrm>
            <a:off x="4572000" y="1523520"/>
            <a:ext cx="2153520" cy="499320"/>
          </a:xfrm>
          <a:prstGeom prst="straightConnector1">
            <a:avLst/>
          </a:prstGeom>
          <a:ln w="9360">
            <a:solidFill>
              <a:srgbClr val="21306a"/>
            </a:solidFill>
            <a:miter/>
            <a:tailEnd len="med" type="arrow" w="med"/>
          </a:ln>
        </p:spPr>
      </p:cxnSp>
      <p:sp>
        <p:nvSpPr>
          <p:cNvPr id="553" name="Прямоугольник 9"/>
          <p:cNvSpPr/>
          <p:nvPr/>
        </p:nvSpPr>
        <p:spPr>
          <a:xfrm>
            <a:off x="5124600" y="2514600"/>
            <a:ext cx="3619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 использованием механизмов независимой оценки знаний путем создания Государственной экзаменационной коми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7"/>
          <p:cNvSpPr/>
          <p:nvPr/>
        </p:nvSpPr>
        <p:spPr>
          <a:xfrm>
            <a:off x="762120" y="30492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государственной (итоговой) аттестации выпускников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8"/>
          <p:cNvSpPr/>
          <p:nvPr/>
        </p:nvSpPr>
        <p:spPr>
          <a:xfrm>
            <a:off x="609480" y="2057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диционная                        В нов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8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остранный язык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855360"/>
            <a:ext cx="858852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2 части –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ая и устная</a:t>
            </a:r>
            <a:r>
              <a:rPr b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. Сложный 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роведении экзамен – необходима качественная звуковоспроизводящая и звукозаписывающая аппаратура, дополнительные аудитор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2 модели проведени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части экзамена в один день 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или  в разные дн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пециалисты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Экзаменатор-собеседни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Квалификация экзаменатора-собеседника непосредственно влияет на результаты экзамена выпускника, может существенно снизить их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Технический специалист, обеспечивающий запись и сохранение звуковых файл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Экзаменаторы-оценщик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12745"/>
                </a:solidFill>
                <a:uFillTx/>
                <a:latin typeface="Times New Roman"/>
                <a:ea typeface="Times New Roman"/>
              </a:rPr>
              <a:t>Оценивание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: только в аудитории, только по звукозаписи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эксперт в аудитории и 1 по звукозапис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27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580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ложения по совершенствованию системы подготовки экспертов ГИА-9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880" y="1514160"/>
            <a:ext cx="835344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Введение категорий экспертов П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Включение в регламент работ ПК обязательного этапа внутреннего согласования подходов к оцениванию,  непосредственно предшествующего проверке экзаменационных рабо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Обязательное привлечение </a:t>
            </a:r>
            <a:r>
              <a:rPr b="0" i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экспертов выс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шей или </a:t>
            </a:r>
            <a:r>
              <a:rPr b="0" i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ервой категорий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по общеобразовательному предмету к рассмотрению апелляций по данному предмет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Участие в отборе важных с точки зрения эксперта работ участников ГИА-9 и  наполнении межрегионального банка изображений экзаменационных работ (ресурс предназначен для использования при подготовке </a:t>
            </a:r>
            <a:r>
              <a:rPr b="0" i="1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экспертов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30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является экспертом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едметной комиссии в Республике Татарстан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752120"/>
            <a:ext cx="8686800" cy="44960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учитель первой или высшей квалификационной категории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ам сдавший ЕГЭ  по предмету на высокий балл (в РТ система ЕГЭ используется для получения или  подтверждения соответствующей категори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руководитель методического объединения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учитель, имеющий опыт проверки олимпиадных работ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участник различных профессиональных конкурс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реподаватель ВУЗа, имеющий отношение к школьному образован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33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Прямоугольник 3"/>
          <p:cNvSpPr/>
          <p:nvPr/>
        </p:nvSpPr>
        <p:spPr>
          <a:xfrm>
            <a:off x="380880" y="1676520"/>
            <a:ext cx="8305920" cy="40546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rebuchet MS"/>
              </a:rPr>
              <a:t>-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етентность,</a:t>
            </a:r>
            <a:r>
              <a:rPr b="0" i="1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включающую в себя знание критериев и специфики оценивания заданий с развернутым отв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-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ние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облюдения  конфиденциальност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-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собности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к самоанализу своей работы в качестве экспе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74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валификационна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характеристика эксперта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36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НИЯ К ЭКСПЕРТАМ КОМИССИИ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0880" y="152352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12745"/>
                </a:solidFill>
                <a:uFillTx/>
                <a:latin typeface="Times New Roman"/>
                <a:ea typeface="Times New Roman"/>
              </a:rPr>
              <a:t>Для экспертов высшей категории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личие базовой подготовки (высшее профильное образование, опыт работы в системе образования, повышение квалификации по предмету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опыт оценивания экзаменационных работ не менее трех лет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оложительные результаты квалификационных испытаний, проводимых на федеральном и региональном уровнях по единым для всех субъектов РФ измерительным материалам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участие в научно-практических конференциях, апробациях, в работе Республиканско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конфликтной комисс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39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04920" y="228240"/>
            <a:ext cx="77724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ля экспертов первой категории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личие базовой подготовки ( высшее профильное образование, опыт работы в системе образования, повышение квалификации по предмету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опыт оценивания экзаменационных работ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оложительные результаты квалификационных испытаний, проводимых на региональном уровне по единым для всех субъектов РФ измерительным материалам, согласованным с экспертами высшей категории Республики Татарста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41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  <p:sp>
        <p:nvSpPr>
          <p:cNvPr id="642" name="Объект 2"/>
          <p:cNvSpPr/>
          <p:nvPr/>
        </p:nvSpPr>
        <p:spPr>
          <a:xfrm>
            <a:off x="228600" y="3657600"/>
            <a:ext cx="8610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ля экспертов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личие базовой подготовки (высшее профильное образование, опыт работы в системе образования, повышение квалификации по предмету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оложительные результаты квалификационных испытаний, проводимых на региональном уровне по единым для всех субъектов РФ измерительным материалам, согласованным с экспертами высшей категории Республики Татарс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0" y="3808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гиональный Центр Обработки Информаци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РЦОИ ГИА выпускников </a:t>
            </a:r>
            <a:r>
              <a:rPr b="1" lang="en-US" sz="2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X</a:t>
            </a:r>
            <a:r>
              <a:rPr b="1" lang="ru-RU" sz="2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классо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324000" y="141300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Месторасположени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СОШ №161, ул Закиева, д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Состав РЦО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уководитель И.А.Сахнова, директор ГБУ «РЦМК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ститель руководителя  М.И.Рахимов, зам.директора ГБУ «РЦМК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. председателя предметной комиссии по математик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. В. Дейнекина, начальник отдела организации и проведения ГИА ГБУ «РЦМК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. председателя предметной комиссии по русскому языку –  Г. Ф. Гафиятуллина, старший специалист ГБУ «РЦМК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Контактная информация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лефон: 525- 48-27, 525- 48-55,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62-52-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gia9bd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281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чания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TextBox 4"/>
          <p:cNvSpPr/>
          <p:nvPr/>
        </p:nvSpPr>
        <p:spPr>
          <a:xfrm>
            <a:off x="304920" y="99072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аковка бланков по спецпае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бланков, ксерокоп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 не гелеевых ручек с чёрными черни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ответствие  персональных данных на бланках с данными Р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 персональных  номеров на бланках №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точная заявка на резервные д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остранным языкам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е качество запис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е оценивание, незнание критериев оценивания, заполнение результатов в бл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формат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равильное название имени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ктическая часть выполняется только на компьютере, бланк №2 не исполь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755640" y="549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айты информационной поддер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965560" cy="3570120"/>
          </a:xfrm>
          <a:prstGeom prst="rect">
            <a:avLst/>
          </a:prstGeom>
          <a:ln w="9360">
            <a:solidFill>
              <a:srgbClr val="5eccf3"/>
            </a:solidFill>
            <a:miter/>
          </a:ln>
        </p:spPr>
      </p:pic>
      <p:pic>
        <p:nvPicPr>
          <p:cNvPr id="651" name="Picture 4" descr=""/>
          <p:cNvPicPr/>
          <p:nvPr/>
        </p:nvPicPr>
        <p:blipFill>
          <a:blip r:embed="rId2"/>
          <a:stretch/>
        </p:blipFill>
        <p:spPr>
          <a:xfrm>
            <a:off x="3059280" y="2781360"/>
            <a:ext cx="6084720" cy="36860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3" descr=""/>
          <p:cNvPicPr/>
          <p:nvPr/>
        </p:nvPicPr>
        <p:blipFill>
          <a:blip r:embed="rId3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9CC5-A9E3-439F-ABD2-B6D8053196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"/>
          <p:cNvSpPr/>
          <p:nvPr/>
        </p:nvSpPr>
        <p:spPr>
          <a:xfrm>
            <a:off x="538200" y="1060560"/>
            <a:ext cx="80773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179280" y="1268280"/>
            <a:ext cx="864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buClr>
                <a:srgbClr val="2127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1187280" y="1628640"/>
            <a:ext cx="71298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745"/>
                </a:solidFill>
                <a:latin typeface="Arial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7"/>
          <p:cNvSpPr/>
          <p:nvPr/>
        </p:nvSpPr>
        <p:spPr>
          <a:xfrm>
            <a:off x="304920" y="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 2003 года Республика Татарстан участвует в апробации новой формы государственной (итоговой) аттестации обучающихся, освоивших программы основно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7"/>
          <p:cNvSpPr/>
          <p:nvPr/>
        </p:nvSpPr>
        <p:spPr>
          <a:xfrm>
            <a:off x="0" y="228600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2013 году государственная (итоговая) аттестация выпускников IX классов  в новой форме на территории Республики Татарстан проводится  по 14 общеобразовательным предметам: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му языку, математике, биологии, физике, химии, географии, истории, обществознанию, иностранному языку (английский, французский, немецкий, испанский), информатике и ИКТ, 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2013 году продолжается апробация проведения государственной (итоговой) аттестации выпускников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лассов с использованием механизмов независимой оценки знаний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татарскому язык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676520" y="304920"/>
            <a:ext cx="44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проведения ГИА- 9 в нов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533520" y="1295280"/>
            <a:ext cx="777240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Подготовительный эт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работка инструкций, нормативных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бор региональной базы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ведение зональных семин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учение экспертов предметных комис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еспечение выпускников пропус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печатка КИМ, справоч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Проведение экзам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Обработка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канирование, вер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бота предметных комис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Получение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сылка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дача справок с результатами экзам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Статистика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Выпуск аналитического сбор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51960" cy="39718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539640" y="2602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хема информационных потоков при прове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А – 9 в нов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3" descr=""/>
          <p:cNvPicPr/>
          <p:nvPr/>
        </p:nvPicPr>
        <p:blipFill>
          <a:blip r:embed="rId2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Нижний колонтитул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914400" y="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оки проведения экзаменов  государственной (итоговой) аттестации выпускников IX классов в нов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C:\Documents and Settings\user\Рабочий стол\работа\зональный\KALENDAR.gif"/>
          <p:cNvPicPr/>
          <p:nvPr/>
        </p:nvPicPr>
        <p:blipFill>
          <a:blip r:embed="rId2"/>
          <a:stretch/>
        </p:blipFill>
        <p:spPr>
          <a:xfrm>
            <a:off x="0" y="5373720"/>
            <a:ext cx="2514600" cy="14842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9"/>
          <p:cNvSpPr/>
          <p:nvPr/>
        </p:nvSpPr>
        <p:spPr>
          <a:xfrm>
            <a:off x="228600" y="1219320"/>
            <a:ext cx="89154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ой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мая (вт) - 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мая (пт) - обществознание, физика, химия, иностранные языки (английский, французский, немецкий, испан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июня (вт) - 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 июня (пт) - история, биология, информатика и ИКТ, география,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июня (вт)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рв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, история, физика, география, биология, иностранные языки (английский, французский, немецкий, испан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июня (пт)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р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усский язык, обществознание, химия, информатика и ИКТ,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июня (пн) - татар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048120" y="4800600"/>
          <a:ext cx="5715000" cy="1828800"/>
        </p:xfrm>
        <a:graphic>
          <a:graphicData uri="http://schemas.openxmlformats.org/drawingml/2006/table">
            <a:tbl>
              <a:tblPr/>
              <a:tblGrid>
                <a:gridCol w="815760"/>
                <a:gridCol w="817560"/>
                <a:gridCol w="816120"/>
                <a:gridCol w="815760"/>
                <a:gridCol w="816120"/>
                <a:gridCol w="817560"/>
                <a:gridCol w="816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ч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29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29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29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29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29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29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f29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ижний колонтитул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1C11-E5B9-4F8D-9752-D2E795F46A08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3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6"/>
          <p:cNvSpPr/>
          <p:nvPr/>
        </p:nvSpPr>
        <p:spPr>
          <a:xfrm>
            <a:off x="304920" y="1143000"/>
            <a:ext cx="8458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й срок (повторная ГИ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июня (пт) - математика, обществознание, физика, химия, иностранные языки (английский, французский, немецкий, испа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июня (пн) - русский язык, история, биология, информатика и ИКТ, география, 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июня (чт) - резервный день (все предметы, включая татарский язы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2" descr="C:\Documents and Settings\user\Рабочий стол\работа\зональный\KALENDAR.gif"/>
          <p:cNvPicPr/>
          <p:nvPr/>
        </p:nvPicPr>
        <p:blipFill>
          <a:blip r:embed="rId2"/>
          <a:stretch/>
        </p:blipFill>
        <p:spPr>
          <a:xfrm>
            <a:off x="0" y="5373720"/>
            <a:ext cx="251460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685800" y="838080"/>
          <a:ext cx="6553080" cy="5712120"/>
        </p:xfrm>
        <a:graphic>
          <a:graphicData uri="http://schemas.openxmlformats.org/drawingml/2006/table">
            <a:tbl>
              <a:tblPr/>
              <a:tblGrid>
                <a:gridCol w="641520"/>
                <a:gridCol w="3184200"/>
                <a:gridCol w="27273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8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мец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ранцуз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спан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3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8" name="Picture 13" descr=""/>
          <p:cNvPicPr/>
          <p:nvPr/>
        </p:nvPicPr>
        <p:blipFill>
          <a:blip r:embed="rId2"/>
          <a:stretch/>
        </p:blipFill>
        <p:spPr>
          <a:xfrm>
            <a:off x="7696080" y="304920"/>
            <a:ext cx="1181160" cy="990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6"/>
          <p:cNvSpPr/>
          <p:nvPr/>
        </p:nvSpPr>
        <p:spPr>
          <a:xfrm>
            <a:off x="762120" y="3049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ичество участников 201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5"/>
          <p:cNvSpPr/>
          <p:nvPr/>
        </p:nvSpPr>
        <p:spPr>
          <a:xfrm>
            <a:off x="1763640" y="0"/>
            <a:ext cx="5761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93516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2" name="Picture 1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3035160" cy="4921200"/>
          </a:xfrm>
          <a:prstGeom prst="rect">
            <a:avLst/>
          </a:prstGeom>
          <a:ln w="9360">
            <a:solidFill>
              <a:srgbClr val="2d2db9"/>
            </a:solidFill>
            <a:miter/>
          </a:ln>
        </p:spPr>
      </p:pic>
      <p:pic>
        <p:nvPicPr>
          <p:cNvPr id="583" name="Picture 2" descr=""/>
          <p:cNvPicPr/>
          <p:nvPr/>
        </p:nvPicPr>
        <p:blipFill>
          <a:blip r:embed="rId3"/>
          <a:stretch/>
        </p:blipFill>
        <p:spPr>
          <a:xfrm>
            <a:off x="4038480" y="1708200"/>
            <a:ext cx="2765520" cy="4768920"/>
          </a:xfrm>
          <a:prstGeom prst="rect">
            <a:avLst/>
          </a:prstGeom>
          <a:ln w="9360">
            <a:solidFill>
              <a:srgbClr val="2d2db9"/>
            </a:solidFill>
            <a:miter/>
          </a:ln>
        </p:spPr>
      </p:pic>
      <p:pic>
        <p:nvPicPr>
          <p:cNvPr id="584" name="Picture 3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3024000" cy="4781520"/>
          </a:xfrm>
          <a:prstGeom prst="rect">
            <a:avLst/>
          </a:prstGeom>
          <a:ln w="9360">
            <a:solidFill>
              <a:srgbClr val="2d2db9"/>
            </a:solidFill>
            <a:miter/>
          </a:ln>
        </p:spPr>
      </p:pic>
      <p:sp>
        <p:nvSpPr>
          <p:cNvPr id="585" name="TextBox 6"/>
          <p:cNvSpPr/>
          <p:nvPr/>
        </p:nvSpPr>
        <p:spPr>
          <a:xfrm>
            <a:off x="4876920" y="1295280"/>
            <a:ext cx="2361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7"/>
          <p:cNvSpPr/>
          <p:nvPr/>
        </p:nvSpPr>
        <p:spPr>
          <a:xfrm>
            <a:off x="2819520" y="60948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01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liya</dc:creator>
  <dc:description/>
  <dc:language>en-US</dc:language>
  <cp:lastModifiedBy>B</cp:lastModifiedBy>
  <cp:lastPrinted>2012-02-14T14:23:04Z</cp:lastPrinted>
  <dcterms:modified xsi:type="dcterms:W3CDTF">2013-04-14T17:29:47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